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CA1-CD39-4F4A-9BD0-DE4974AB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EC4-73BE-4FAA-A974-CAC6423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3A2-7F5B-4F0A-B74F-25A81CE5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742-E9F3-4831-A7F5-BE448FA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60C-FC98-4AA4-97E1-7EA15C2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4A6-42B7-49D8-9BFA-E6A463FC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9B1-A797-4B0D-B2DC-EC38206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777-1CCC-4F49-A3F5-62CA33A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82D-E985-4112-A14F-BD4B8D2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C3F-5285-4F19-B190-140B53A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2B0-7F29-46F0-9E89-BA1CBE63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B0D-337E-4805-AB6B-EFA720C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120-DE58-440F-82F5-6B04EE01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6-337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04776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cle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563868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4 – 305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19828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2857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at Milvian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029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la and the H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257800" cy="524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5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0" y="2143080"/>
            <a:ext cx="3333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768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2:35:00Z</dcterms:created>
  <dc:creator>Darien Public Schools</dc:creator>
  <dc:description/>
  <dc:language>en-US</dc:language>
  <cp:lastModifiedBy>Darien Public Schools</cp:lastModifiedBy>
  <dcterms:modified xsi:type="dcterms:W3CDTF">2006-11-03T12:37:55Z</dcterms:modified>
  <cp:revision>2</cp:revision>
  <dc:subject/>
  <dc:title>Constantine</dc:title>
</cp:coreProperties>
</file>